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7D6-74C2-4B40-BEDB-4CBAA97C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095-3FCE-46BA-9709-A6228EDF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CF3-BAC8-4AF9-82EE-9BE53326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54E-D299-4DE4-9E7D-90645F61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6FC-6E75-4DF6-9916-742CC81E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32B-90CE-4F7A-AB96-D128AE1C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369-0E83-410A-8C34-A01A4CBB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D90-0FF3-40F6-85B8-4F8C32C7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DDA-1471-44A6-A187-09D3E640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F7D-2DC3-4DA4-86E3-B742FD29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9E3-CE3C-40AD-86D7-4C1E301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0BC-2908-44DC-831E-FD941D4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39A9-4751-4C96-AF70-879AFD253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image" Target="../media/image3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03280" y="981000"/>
            <a:ext cx="6696000" cy="1335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Arial"/>
              </a:rPr>
              <a:t>Преобразования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Arial"/>
              </a:rPr>
              <a:t>фигур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124000" y="2421000"/>
            <a:ext cx="5183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Times New Roman"/>
              </a:rPr>
              <a:t>Движение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Picture 8" descr="ладонь"/>
          <p:cNvPicPr/>
          <p:nvPr/>
        </p:nvPicPr>
        <p:blipFill>
          <a:blip r:embed="rId1"/>
          <a:stretch/>
        </p:blipFill>
        <p:spPr>
          <a:xfrm>
            <a:off x="3276720" y="4941720"/>
            <a:ext cx="2879640" cy="161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Рисунок3"/>
          <p:cNvPicPr/>
          <p:nvPr/>
        </p:nvPicPr>
        <p:blipFill>
          <a:blip r:embed="rId2"/>
          <a:stretch/>
        </p:blipFill>
        <p:spPr>
          <a:xfrm rot="558600">
            <a:off x="6877080" y="3645000"/>
            <a:ext cx="2004840" cy="77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school_p"/>
          <p:cNvPicPr/>
          <p:nvPr/>
        </p:nvPicPr>
        <p:blipFill>
          <a:blip r:embed="rId3"/>
          <a:stretch/>
        </p:blipFill>
        <p:spPr>
          <a:xfrm>
            <a:off x="324000" y="2349360"/>
            <a:ext cx="1720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9"/>
          <p:cNvSpPr/>
          <p:nvPr/>
        </p:nvSpPr>
        <p:spPr>
          <a:xfrm>
            <a:off x="468360" y="2565360"/>
            <a:ext cx="2663640" cy="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755640" y="33336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Осевая симметрия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763640" y="1773360"/>
            <a:ext cx="0" cy="1584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836720" y="1557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539640" y="2492280"/>
            <a:ext cx="14472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34000" y="193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1258920" y="2492280"/>
            <a:ext cx="0" cy="2160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268360" y="2421000"/>
            <a:ext cx="0" cy="2872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2771640" y="2492280"/>
            <a:ext cx="14472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2753280" y="193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79280" y="4076640"/>
            <a:ext cx="423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очка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симметр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очке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тнос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ямой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оси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 flipV="1">
            <a:off x="4427640" y="2205000"/>
            <a:ext cx="4176720" cy="2736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 rot="5026200">
            <a:off x="5253120" y="1924920"/>
            <a:ext cx="1284120" cy="1260360"/>
          </a:xfrm>
          <a:prstGeom prst="rtTriangl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9"/>
          <p:cNvSpPr/>
          <p:nvPr/>
        </p:nvSpPr>
        <p:spPr>
          <a:xfrm rot="18204000">
            <a:off x="6575760" y="3945240"/>
            <a:ext cx="1284480" cy="126072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5219640" y="3068640"/>
            <a:ext cx="1440000" cy="223200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 flipH="1">
            <a:off x="5508360" y="3573360"/>
            <a:ext cx="142920" cy="1429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 flipH="1">
            <a:off x="5940360" y="4292640"/>
            <a:ext cx="21600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6372360" y="1700280"/>
            <a:ext cx="1871640" cy="288108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 flipH="1">
            <a:off x="6732360" y="227664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 flipH="1">
            <a:off x="6803640" y="242100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 flipH="1">
            <a:off x="7380000" y="328464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 flipH="1">
            <a:off x="7451640" y="3429000"/>
            <a:ext cx="14472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 flipV="1">
            <a:off x="1619280" y="24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161928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0"/>
          <p:cNvSpPr/>
          <p:nvPr/>
        </p:nvSpPr>
        <p:spPr>
          <a:xfrm flipH="1" flipV="1">
            <a:off x="5651640" y="400536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1"/>
          <p:cNvSpPr/>
          <p:nvPr/>
        </p:nvSpPr>
        <p:spPr>
          <a:xfrm flipH="1">
            <a:off x="5651640" y="3933720"/>
            <a:ext cx="72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 flipV="1">
            <a:off x="7236000" y="2923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7380360" y="2924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8369640" y="17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6"/>
              <p:cNvSpPr txBox="1"/>
              <p:nvPr/>
            </p:nvSpPr>
            <p:spPr>
              <a:xfrm>
                <a:off x="4859280" y="3141720"/>
                <a:ext cx="504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7"/>
              <p:cNvSpPr txBox="1"/>
              <p:nvPr/>
            </p:nvSpPr>
            <p:spPr>
              <a:xfrm>
                <a:off x="5867280" y="4724280"/>
                <a:ext cx="5796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8"/>
              <p:cNvSpPr txBox="1"/>
              <p:nvPr/>
            </p:nvSpPr>
            <p:spPr>
              <a:xfrm>
                <a:off x="6516720" y="1557360"/>
                <a:ext cx="374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39"/>
              <p:cNvSpPr txBox="1"/>
              <p:nvPr/>
            </p:nvSpPr>
            <p:spPr>
              <a:xfrm>
                <a:off x="8101080" y="393372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0"/>
              <p:cNvSpPr txBox="1"/>
              <p:nvPr/>
            </p:nvSpPr>
            <p:spPr>
              <a:xfrm>
                <a:off x="4932360" y="1484280"/>
                <a:ext cx="4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1"/>
              <p:cNvSpPr txBox="1"/>
              <p:nvPr/>
            </p:nvSpPr>
            <p:spPr>
              <a:xfrm>
                <a:off x="7524720" y="5229360"/>
                <a:ext cx="385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357120" y="1143000"/>
            <a:ext cx="8501040" cy="4214520"/>
            <a:chOff x="357120" y="1143000"/>
            <a:chExt cx="8501040" cy="4214520"/>
          </a:xfrm>
        </p:grpSpPr>
        <p:pic>
          <p:nvPicPr>
            <p:cNvPr id="173" name="Picture 3" descr="клетка"/>
            <p:cNvPicPr/>
            <p:nvPr/>
          </p:nvPicPr>
          <p:blipFill>
            <a:blip r:embed="rId1"/>
            <a:srcRect l="13791" t="0" r="37945" b="0"/>
            <a:stretch/>
          </p:blipFill>
          <p:spPr>
            <a:xfrm>
              <a:off x="357120" y="1231200"/>
              <a:ext cx="4577400" cy="4126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Group 4"/>
            <p:cNvGrpSpPr/>
            <p:nvPr/>
          </p:nvGrpSpPr>
          <p:grpSpPr>
            <a:xfrm>
              <a:off x="1344240" y="1646280"/>
              <a:ext cx="1630800" cy="1453680"/>
              <a:chOff x="1344240" y="1646280"/>
              <a:chExt cx="1630800" cy="1453680"/>
            </a:xfrm>
          </p:grpSpPr>
          <p:sp>
            <p:nvSpPr>
              <p:cNvPr id="175" name="Line 5"/>
              <p:cNvSpPr/>
              <p:nvPr/>
            </p:nvSpPr>
            <p:spPr>
              <a:xfrm>
                <a:off x="1344240" y="1646280"/>
                <a:ext cx="0" cy="145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6"/>
              <p:cNvSpPr/>
              <p:nvPr/>
            </p:nvSpPr>
            <p:spPr>
              <a:xfrm>
                <a:off x="1344240" y="1646280"/>
                <a:ext cx="163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7"/>
              <p:cNvSpPr/>
              <p:nvPr/>
            </p:nvSpPr>
            <p:spPr>
              <a:xfrm>
                <a:off x="2975040" y="1646280"/>
                <a:ext cx="0" cy="145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8"/>
              <p:cNvSpPr/>
              <p:nvPr/>
            </p:nvSpPr>
            <p:spPr>
              <a:xfrm>
                <a:off x="1344240" y="3099960"/>
                <a:ext cx="163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Line 9"/>
            <p:cNvSpPr/>
            <p:nvPr/>
          </p:nvSpPr>
          <p:spPr>
            <a:xfrm>
              <a:off x="1753560" y="185112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1753560" y="1851120"/>
              <a:ext cx="1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1874160" y="185112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1753560" y="2016000"/>
              <a:ext cx="1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2418480" y="1851120"/>
              <a:ext cx="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418480" y="185112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2599920" y="1851120"/>
              <a:ext cx="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 flipH="1">
              <a:off x="2418480" y="209988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 flipH="1">
              <a:off x="1873800" y="2597760"/>
              <a:ext cx="6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>
              <a:off x="2177280" y="259776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"/>
            <p:cNvSpPr/>
            <p:nvPr/>
          </p:nvSpPr>
          <p:spPr>
            <a:xfrm>
              <a:off x="2357640" y="2016000"/>
              <a:ext cx="63000" cy="8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0"/>
            <p:cNvSpPr/>
            <p:nvPr/>
          </p:nvSpPr>
          <p:spPr>
            <a:xfrm>
              <a:off x="1693800" y="1851120"/>
              <a:ext cx="619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1"/>
            <p:cNvSpPr/>
            <p:nvPr/>
          </p:nvSpPr>
          <p:spPr>
            <a:xfrm flipH="1">
              <a:off x="687960" y="235332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>
              <a:off x="695160" y="2361960"/>
              <a:ext cx="6480" cy="11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>
              <a:off x="1026360" y="2759760"/>
              <a:ext cx="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V="1">
              <a:off x="1040040" y="2724120"/>
              <a:ext cx="29088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5"/>
            <p:cNvSpPr/>
            <p:nvPr/>
          </p:nvSpPr>
          <p:spPr>
            <a:xfrm>
              <a:off x="708840" y="3466800"/>
              <a:ext cx="30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 flipH="1">
              <a:off x="498960" y="3493080"/>
              <a:ext cx="189360" cy="34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H="1">
              <a:off x="708480" y="3475440"/>
              <a:ext cx="13500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 flipH="1">
              <a:off x="3623040" y="2361960"/>
              <a:ext cx="684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9"/>
            <p:cNvSpPr/>
            <p:nvPr/>
          </p:nvSpPr>
          <p:spPr>
            <a:xfrm flipH="1">
              <a:off x="3312000" y="3122280"/>
              <a:ext cx="30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0"/>
            <p:cNvSpPr/>
            <p:nvPr/>
          </p:nvSpPr>
          <p:spPr>
            <a:xfrm flipH="1">
              <a:off x="2974320" y="2344320"/>
              <a:ext cx="6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1"/>
            <p:cNvSpPr/>
            <p:nvPr/>
          </p:nvSpPr>
          <p:spPr>
            <a:xfrm>
              <a:off x="3319200" y="2750760"/>
              <a:ext cx="0" cy="35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2"/>
            <p:cNvSpPr/>
            <p:nvPr/>
          </p:nvSpPr>
          <p:spPr>
            <a:xfrm flipH="1">
              <a:off x="2987640" y="275076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3"/>
            <p:cNvSpPr/>
            <p:nvPr/>
          </p:nvSpPr>
          <p:spPr>
            <a:xfrm flipH="1">
              <a:off x="1675440" y="3113280"/>
              <a:ext cx="6840" cy="10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4"/>
            <p:cNvSpPr/>
            <p:nvPr/>
          </p:nvSpPr>
          <p:spPr>
            <a:xfrm>
              <a:off x="1993680" y="3095640"/>
              <a:ext cx="0" cy="15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5"/>
            <p:cNvSpPr/>
            <p:nvPr/>
          </p:nvSpPr>
          <p:spPr>
            <a:xfrm flipV="1">
              <a:off x="1364400" y="4226760"/>
              <a:ext cx="3110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6"/>
            <p:cNvSpPr/>
            <p:nvPr/>
          </p:nvSpPr>
          <p:spPr>
            <a:xfrm>
              <a:off x="1351080" y="42530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7"/>
            <p:cNvSpPr/>
            <p:nvPr/>
          </p:nvSpPr>
          <p:spPr>
            <a:xfrm>
              <a:off x="2656440" y="310464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8"/>
            <p:cNvSpPr/>
            <p:nvPr/>
          </p:nvSpPr>
          <p:spPr>
            <a:xfrm flipH="1">
              <a:off x="2670120" y="3493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9"/>
            <p:cNvSpPr/>
            <p:nvPr/>
          </p:nvSpPr>
          <p:spPr>
            <a:xfrm>
              <a:off x="2345400" y="310464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0"/>
            <p:cNvSpPr/>
            <p:nvPr/>
          </p:nvSpPr>
          <p:spPr>
            <a:xfrm flipH="1" flipV="1">
              <a:off x="1357560" y="4579560"/>
              <a:ext cx="64332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1"/>
            <p:cNvSpPr/>
            <p:nvPr/>
          </p:nvSpPr>
          <p:spPr>
            <a:xfrm>
              <a:off x="2662920" y="38732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42"/>
            <p:cNvSpPr/>
            <p:nvPr/>
          </p:nvSpPr>
          <p:spPr>
            <a:xfrm>
              <a:off x="2338560" y="3864240"/>
              <a:ext cx="30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3"/>
            <p:cNvSpPr/>
            <p:nvPr/>
          </p:nvSpPr>
          <p:spPr>
            <a:xfrm>
              <a:off x="2987640" y="349308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4"/>
            <p:cNvSpPr/>
            <p:nvPr/>
          </p:nvSpPr>
          <p:spPr>
            <a:xfrm>
              <a:off x="2656440" y="4217760"/>
              <a:ext cx="3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5"/>
            <p:cNvSpPr/>
            <p:nvPr/>
          </p:nvSpPr>
          <p:spPr>
            <a:xfrm>
              <a:off x="4130640" y="1143000"/>
              <a:ext cx="0" cy="394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46" descr="клетка"/>
            <p:cNvPicPr/>
            <p:nvPr/>
          </p:nvPicPr>
          <p:blipFill>
            <a:blip r:embed="rId2"/>
            <a:srcRect l="13791" t="0" r="37945" b="0"/>
            <a:stretch/>
          </p:blipFill>
          <p:spPr>
            <a:xfrm>
              <a:off x="4279680" y="1231200"/>
              <a:ext cx="4578480" cy="4126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Group 47"/>
            <p:cNvGrpSpPr/>
            <p:nvPr/>
          </p:nvGrpSpPr>
          <p:grpSpPr>
            <a:xfrm>
              <a:off x="5280480" y="1646280"/>
              <a:ext cx="1631880" cy="1443240"/>
              <a:chOff x="5280480" y="1646280"/>
              <a:chExt cx="1631880" cy="1443240"/>
            </a:xfrm>
          </p:grpSpPr>
          <p:sp>
            <p:nvSpPr>
              <p:cNvPr id="218" name="Line 48"/>
              <p:cNvSpPr/>
              <p:nvPr/>
            </p:nvSpPr>
            <p:spPr>
              <a:xfrm>
                <a:off x="5280480" y="1646280"/>
                <a:ext cx="0" cy="144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9"/>
              <p:cNvSpPr/>
              <p:nvPr/>
            </p:nvSpPr>
            <p:spPr>
              <a:xfrm>
                <a:off x="5280480" y="1646280"/>
                <a:ext cx="163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0"/>
              <p:cNvSpPr/>
              <p:nvPr/>
            </p:nvSpPr>
            <p:spPr>
              <a:xfrm>
                <a:off x="6912360" y="1646280"/>
                <a:ext cx="0" cy="144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51"/>
              <p:cNvSpPr/>
              <p:nvPr/>
            </p:nvSpPr>
            <p:spPr>
              <a:xfrm>
                <a:off x="5280480" y="3089520"/>
                <a:ext cx="163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Line 52"/>
            <p:cNvSpPr/>
            <p:nvPr/>
          </p:nvSpPr>
          <p:spPr>
            <a:xfrm>
              <a:off x="5670720" y="1898280"/>
              <a:ext cx="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3"/>
            <p:cNvSpPr/>
            <p:nvPr/>
          </p:nvSpPr>
          <p:spPr>
            <a:xfrm>
              <a:off x="5670720" y="1898280"/>
              <a:ext cx="12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54"/>
            <p:cNvSpPr/>
            <p:nvPr/>
          </p:nvSpPr>
          <p:spPr>
            <a:xfrm>
              <a:off x="5790960" y="1898280"/>
              <a:ext cx="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5"/>
            <p:cNvSpPr/>
            <p:nvPr/>
          </p:nvSpPr>
          <p:spPr>
            <a:xfrm>
              <a:off x="5670720" y="2064960"/>
              <a:ext cx="12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6"/>
            <p:cNvSpPr/>
            <p:nvPr/>
          </p:nvSpPr>
          <p:spPr>
            <a:xfrm>
              <a:off x="6335280" y="1898280"/>
              <a:ext cx="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7"/>
            <p:cNvSpPr/>
            <p:nvPr/>
          </p:nvSpPr>
          <p:spPr>
            <a:xfrm>
              <a:off x="6335280" y="189828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58"/>
            <p:cNvSpPr/>
            <p:nvPr/>
          </p:nvSpPr>
          <p:spPr>
            <a:xfrm>
              <a:off x="6516000" y="1898280"/>
              <a:ext cx="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9"/>
            <p:cNvSpPr/>
            <p:nvPr/>
          </p:nvSpPr>
          <p:spPr>
            <a:xfrm flipH="1">
              <a:off x="6334920" y="214704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0"/>
            <p:cNvSpPr/>
            <p:nvPr/>
          </p:nvSpPr>
          <p:spPr>
            <a:xfrm flipH="1">
              <a:off x="5790600" y="2481480"/>
              <a:ext cx="30204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61"/>
            <p:cNvSpPr/>
            <p:nvPr/>
          </p:nvSpPr>
          <p:spPr>
            <a:xfrm>
              <a:off x="6093000" y="2481480"/>
              <a:ext cx="24228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2"/>
            <p:cNvSpPr/>
            <p:nvPr/>
          </p:nvSpPr>
          <p:spPr>
            <a:xfrm>
              <a:off x="6274440" y="2064960"/>
              <a:ext cx="61920" cy="82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3"/>
            <p:cNvSpPr/>
            <p:nvPr/>
          </p:nvSpPr>
          <p:spPr>
            <a:xfrm>
              <a:off x="5790960" y="1980720"/>
              <a:ext cx="61920" cy="8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64"/>
            <p:cNvSpPr/>
            <p:nvPr/>
          </p:nvSpPr>
          <p:spPr>
            <a:xfrm flipH="1">
              <a:off x="4624200" y="2361960"/>
              <a:ext cx="66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5"/>
            <p:cNvSpPr/>
            <p:nvPr/>
          </p:nvSpPr>
          <p:spPr>
            <a:xfrm>
              <a:off x="4631400" y="233568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6"/>
            <p:cNvSpPr/>
            <p:nvPr/>
          </p:nvSpPr>
          <p:spPr>
            <a:xfrm>
              <a:off x="4944600" y="2730600"/>
              <a:ext cx="0" cy="4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7"/>
            <p:cNvSpPr/>
            <p:nvPr/>
          </p:nvSpPr>
          <p:spPr>
            <a:xfrm>
              <a:off x="4944600" y="2730600"/>
              <a:ext cx="36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8"/>
            <p:cNvSpPr/>
            <p:nvPr/>
          </p:nvSpPr>
          <p:spPr>
            <a:xfrm>
              <a:off x="4624560" y="3130920"/>
              <a:ext cx="30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9"/>
            <p:cNvSpPr/>
            <p:nvPr/>
          </p:nvSpPr>
          <p:spPr>
            <a:xfrm>
              <a:off x="7423200" y="3481560"/>
              <a:ext cx="18144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0"/>
            <p:cNvSpPr/>
            <p:nvPr/>
          </p:nvSpPr>
          <p:spPr>
            <a:xfrm>
              <a:off x="7543800" y="3481560"/>
              <a:ext cx="24228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1"/>
            <p:cNvSpPr/>
            <p:nvPr/>
          </p:nvSpPr>
          <p:spPr>
            <a:xfrm flipH="1">
              <a:off x="7545600" y="2397600"/>
              <a:ext cx="6840" cy="108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2"/>
            <p:cNvSpPr/>
            <p:nvPr/>
          </p:nvSpPr>
          <p:spPr>
            <a:xfrm flipH="1">
              <a:off x="7241760" y="348156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3"/>
            <p:cNvSpPr/>
            <p:nvPr/>
          </p:nvSpPr>
          <p:spPr>
            <a:xfrm flipH="1">
              <a:off x="6944040" y="2361960"/>
              <a:ext cx="60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74"/>
            <p:cNvSpPr/>
            <p:nvPr/>
          </p:nvSpPr>
          <p:spPr>
            <a:xfrm>
              <a:off x="7241760" y="2730600"/>
              <a:ext cx="0" cy="10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5"/>
            <p:cNvSpPr/>
            <p:nvPr/>
          </p:nvSpPr>
          <p:spPr>
            <a:xfrm flipH="1">
              <a:off x="6939360" y="2730600"/>
              <a:ext cx="30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6"/>
            <p:cNvSpPr/>
            <p:nvPr/>
          </p:nvSpPr>
          <p:spPr>
            <a:xfrm>
              <a:off x="5591520" y="3077640"/>
              <a:ext cx="0" cy="4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7"/>
            <p:cNvSpPr/>
            <p:nvPr/>
          </p:nvSpPr>
          <p:spPr>
            <a:xfrm>
              <a:off x="5929920" y="3113280"/>
              <a:ext cx="6480" cy="72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78"/>
            <p:cNvSpPr/>
            <p:nvPr/>
          </p:nvSpPr>
          <p:spPr>
            <a:xfrm>
              <a:off x="5287320" y="3493080"/>
              <a:ext cx="29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79"/>
            <p:cNvSpPr/>
            <p:nvPr/>
          </p:nvSpPr>
          <p:spPr>
            <a:xfrm>
              <a:off x="5259960" y="3493080"/>
              <a:ext cx="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80"/>
            <p:cNvSpPr/>
            <p:nvPr/>
          </p:nvSpPr>
          <p:spPr>
            <a:xfrm>
              <a:off x="6576840" y="3064680"/>
              <a:ext cx="0" cy="14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81"/>
            <p:cNvSpPr/>
            <p:nvPr/>
          </p:nvSpPr>
          <p:spPr>
            <a:xfrm flipH="1">
              <a:off x="5911560" y="4231080"/>
              <a:ext cx="36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82"/>
            <p:cNvSpPr/>
            <p:nvPr/>
          </p:nvSpPr>
          <p:spPr>
            <a:xfrm>
              <a:off x="6274440" y="3060360"/>
              <a:ext cx="0" cy="11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83"/>
            <p:cNvSpPr/>
            <p:nvPr/>
          </p:nvSpPr>
          <p:spPr>
            <a:xfrm flipH="1">
              <a:off x="5273280" y="3846600"/>
              <a:ext cx="6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4"/>
            <p:cNvSpPr/>
            <p:nvPr/>
          </p:nvSpPr>
          <p:spPr>
            <a:xfrm>
              <a:off x="5911560" y="4231080"/>
              <a:ext cx="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85"/>
            <p:cNvSpPr/>
            <p:nvPr/>
          </p:nvSpPr>
          <p:spPr>
            <a:xfrm>
              <a:off x="5916240" y="4579920"/>
              <a:ext cx="66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6"/>
            <p:cNvSpPr/>
            <p:nvPr/>
          </p:nvSpPr>
          <p:spPr>
            <a:xfrm>
              <a:off x="7362360" y="3481560"/>
              <a:ext cx="6048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1763640" y="189000"/>
            <a:ext cx="561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Поворот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258" name="Text Box 36"/>
          <p:cNvSpPr/>
          <p:nvPr/>
        </p:nvSpPr>
        <p:spPr>
          <a:xfrm>
            <a:off x="4333320" y="5872320"/>
            <a:ext cx="342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Направление поворо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 часовой стре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5" descr="3"/>
          <p:cNvPicPr/>
          <p:nvPr/>
        </p:nvPicPr>
        <p:blipFill>
          <a:blip r:embed="rId1"/>
          <a:stretch/>
        </p:blipFill>
        <p:spPr>
          <a:xfrm>
            <a:off x="1357200" y="1857240"/>
            <a:ext cx="39290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755640" y="33336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Центральная симметрия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4572000" y="213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4428720" y="1628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 flipH="1">
            <a:off x="1547280" y="2205000"/>
            <a:ext cx="30956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2124000" y="213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4716360" y="2205000"/>
            <a:ext cx="33847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877080" y="2133720"/>
            <a:ext cx="144360" cy="1429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98180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6734880" y="17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>
            <a:off x="1547640" y="2924280"/>
            <a:ext cx="1214640" cy="2305080"/>
          </a:xfrm>
          <a:prstGeom prst="diamond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/>
          <p:cNvSpPr/>
          <p:nvPr/>
        </p:nvSpPr>
        <p:spPr>
          <a:xfrm>
            <a:off x="5940360" y="2637000"/>
            <a:ext cx="1214640" cy="2304720"/>
          </a:xfrm>
          <a:prstGeom prst="diamond">
            <a:avLst/>
          </a:prstGeom>
          <a:solidFill>
            <a:srgbClr val="00cc66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 flipV="1">
            <a:off x="2556000" y="3933360"/>
            <a:ext cx="172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8"/>
          <p:cNvSpPr/>
          <p:nvPr/>
        </p:nvSpPr>
        <p:spPr>
          <a:xfrm flipV="1">
            <a:off x="4356000" y="378900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1979640" y="2852640"/>
            <a:ext cx="2305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4141440" y="33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2"/>
              <p:cNvSpPr txBox="1"/>
              <p:nvPr/>
            </p:nvSpPr>
            <p:spPr>
              <a:xfrm>
                <a:off x="1619280" y="2637000"/>
                <a:ext cx="44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3"/>
              <p:cNvSpPr txBox="1"/>
              <p:nvPr/>
            </p:nvSpPr>
            <p:spPr>
              <a:xfrm>
                <a:off x="6588000" y="4653000"/>
                <a:ext cx="507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4"/>
              <p:cNvSpPr txBox="1"/>
              <p:nvPr/>
            </p:nvSpPr>
            <p:spPr>
              <a:xfrm>
                <a:off x="2843280" y="4149720"/>
                <a:ext cx="374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5"/>
              <p:cNvSpPr txBox="1"/>
              <p:nvPr/>
            </p:nvSpPr>
            <p:spPr>
              <a:xfrm>
                <a:off x="5580000" y="328464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9" name="Line 26"/>
          <p:cNvSpPr/>
          <p:nvPr/>
        </p:nvSpPr>
        <p:spPr>
          <a:xfrm flipH="1">
            <a:off x="3131640" y="328464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7"/>
          <p:cNvSpPr/>
          <p:nvPr/>
        </p:nvSpPr>
        <p:spPr>
          <a:xfrm flipH="1">
            <a:off x="5363640" y="43657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5003640" y="378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5148360" y="3716280"/>
            <a:ext cx="712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3348000" y="393372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3492360" y="393372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3348000" y="2060640"/>
            <a:ext cx="71640" cy="288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5580000" y="2060640"/>
            <a:ext cx="144360" cy="288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4284720" y="3933720"/>
            <a:ext cx="23749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5"/>
          <p:cNvSpPr/>
          <p:nvPr/>
        </p:nvSpPr>
        <p:spPr>
          <a:xfrm>
            <a:off x="4211640" y="3860640"/>
            <a:ext cx="14436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879120" y="5680080"/>
            <a:ext cx="69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очка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симметрична точке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относ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ентра симметрии – точки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071720" y="1500120"/>
            <a:ext cx="7357680" cy="3928680"/>
            <a:chOff x="1071720" y="1500120"/>
            <a:chExt cx="7357680" cy="3928680"/>
          </a:xfrm>
        </p:grpSpPr>
        <p:grpSp>
          <p:nvGrpSpPr>
            <p:cNvPr id="291" name="Group 3"/>
            <p:cNvGrpSpPr/>
            <p:nvPr/>
          </p:nvGrpSpPr>
          <p:grpSpPr>
            <a:xfrm>
              <a:off x="1071720" y="1653840"/>
              <a:ext cx="3345840" cy="3774960"/>
              <a:chOff x="1071720" y="1653840"/>
              <a:chExt cx="3345840" cy="3774960"/>
            </a:xfrm>
          </p:grpSpPr>
          <p:pic>
            <p:nvPicPr>
              <p:cNvPr id="292" name="Picture 4" descr="клетка"/>
              <p:cNvPicPr/>
              <p:nvPr/>
            </p:nvPicPr>
            <p:blipFill>
              <a:blip r:embed="rId1"/>
              <a:srcRect l="20450" t="0" r="20805" b="0"/>
              <a:stretch/>
            </p:blipFill>
            <p:spPr>
              <a:xfrm>
                <a:off x="1071720" y="1653840"/>
                <a:ext cx="3345840" cy="37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5"/>
              <p:cNvSpPr/>
              <p:nvPr/>
            </p:nvSpPr>
            <p:spPr>
              <a:xfrm>
                <a:off x="2638440" y="3332520"/>
                <a:ext cx="31680" cy="6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Group 6"/>
              <p:cNvGrpSpPr/>
              <p:nvPr/>
            </p:nvGrpSpPr>
            <p:grpSpPr>
              <a:xfrm>
                <a:off x="1465560" y="2049480"/>
                <a:ext cx="599040" cy="1681920"/>
                <a:chOff x="1465560" y="2049480"/>
                <a:chExt cx="599040" cy="1681920"/>
              </a:xfrm>
            </p:grpSpPr>
            <p:sp>
              <p:nvSpPr>
                <p:cNvPr id="295" name="Rectangle 7"/>
                <p:cNvSpPr/>
                <p:nvPr/>
              </p:nvSpPr>
              <p:spPr>
                <a:xfrm>
                  <a:off x="1475280" y="2713680"/>
                  <a:ext cx="585720" cy="1017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8"/>
                <p:cNvSpPr/>
                <p:nvPr/>
              </p:nvSpPr>
              <p:spPr>
                <a:xfrm>
                  <a:off x="1842480" y="2049480"/>
                  <a:ext cx="127800" cy="438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utoShape 9"/>
                <p:cNvSpPr/>
                <p:nvPr/>
              </p:nvSpPr>
              <p:spPr>
                <a:xfrm>
                  <a:off x="1465560" y="2063520"/>
                  <a:ext cx="599040" cy="642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Text Box 10"/>
              <p:cNvSpPr/>
              <p:nvPr/>
            </p:nvSpPr>
            <p:spPr>
              <a:xfrm>
                <a:off x="2539080" y="3406680"/>
                <a:ext cx="28944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О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9" name="Picture 11" descr="клетка"/>
            <p:cNvPicPr/>
            <p:nvPr/>
          </p:nvPicPr>
          <p:blipFill>
            <a:blip r:embed="rId2"/>
            <a:srcRect l="20450" t="0" r="20805" b="0"/>
            <a:stretch/>
          </p:blipFill>
          <p:spPr>
            <a:xfrm>
              <a:off x="5220360" y="2123280"/>
              <a:ext cx="320904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Oval 12"/>
            <p:cNvSpPr/>
            <p:nvPr/>
          </p:nvSpPr>
          <p:spPr>
            <a:xfrm>
              <a:off x="6723720" y="3587040"/>
              <a:ext cx="29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3"/>
            <p:cNvGrpSpPr/>
            <p:nvPr/>
          </p:nvGrpSpPr>
          <p:grpSpPr>
            <a:xfrm>
              <a:off x="5598000" y="2474640"/>
              <a:ext cx="574920" cy="1464840"/>
              <a:chOff x="5598000" y="2474640"/>
              <a:chExt cx="574920" cy="1464840"/>
            </a:xfrm>
          </p:grpSpPr>
          <p:sp>
            <p:nvSpPr>
              <p:cNvPr id="302" name="Rectangle 14"/>
              <p:cNvSpPr/>
              <p:nvPr/>
            </p:nvSpPr>
            <p:spPr>
              <a:xfrm>
                <a:off x="5607360" y="3053160"/>
                <a:ext cx="561960" cy="88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5"/>
              <p:cNvSpPr/>
              <p:nvPr/>
            </p:nvSpPr>
            <p:spPr>
              <a:xfrm>
                <a:off x="5959800" y="2474640"/>
                <a:ext cx="122760" cy="38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16"/>
              <p:cNvSpPr/>
              <p:nvPr/>
            </p:nvSpPr>
            <p:spPr>
              <a:xfrm>
                <a:off x="5598000" y="2486880"/>
                <a:ext cx="574920" cy="5598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17"/>
            <p:cNvSpPr/>
            <p:nvPr/>
          </p:nvSpPr>
          <p:spPr>
            <a:xfrm>
              <a:off x="6627960" y="3651840"/>
              <a:ext cx="33948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</a:rPr>
                <a:t>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18"/>
            <p:cNvGrpSpPr/>
            <p:nvPr/>
          </p:nvGrpSpPr>
          <p:grpSpPr>
            <a:xfrm>
              <a:off x="7305840" y="3356280"/>
              <a:ext cx="575280" cy="1464840"/>
              <a:chOff x="7305840" y="3356280"/>
              <a:chExt cx="575280" cy="1464840"/>
            </a:xfrm>
          </p:grpSpPr>
          <p:sp>
            <p:nvSpPr>
              <p:cNvPr id="307" name="Rectangle 19"/>
              <p:cNvSpPr/>
              <p:nvPr/>
            </p:nvSpPr>
            <p:spPr>
              <a:xfrm flipH="1" flipV="1">
                <a:off x="7309440" y="3356280"/>
                <a:ext cx="562320" cy="88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0"/>
              <p:cNvSpPr/>
              <p:nvPr/>
            </p:nvSpPr>
            <p:spPr>
              <a:xfrm flipH="1" flipV="1">
                <a:off x="7396200" y="4439520"/>
                <a:ext cx="122760" cy="38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utoShape 21"/>
              <p:cNvSpPr/>
              <p:nvPr/>
            </p:nvSpPr>
            <p:spPr>
              <a:xfrm flipH="1" flipV="1">
                <a:off x="7305840" y="4248720"/>
                <a:ext cx="575280" cy="5598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 Box 22"/>
            <p:cNvSpPr/>
            <p:nvPr/>
          </p:nvSpPr>
          <p:spPr>
            <a:xfrm>
              <a:off x="6411600" y="1500120"/>
              <a:ext cx="155376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Решение</a:t>
              </a: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4"/>
          <p:cNvSpPr txBox="1"/>
          <p:nvPr/>
        </p:nvSpPr>
        <p:spPr>
          <a:xfrm>
            <a:off x="1763640" y="189000"/>
            <a:ext cx="561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Рефлексия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grpSp>
        <p:nvGrpSpPr>
          <p:cNvPr id="312" name="Группа 2"/>
          <p:cNvGrpSpPr/>
          <p:nvPr/>
        </p:nvGrpSpPr>
        <p:grpSpPr>
          <a:xfrm>
            <a:off x="428760" y="2286000"/>
            <a:ext cx="3142800" cy="2928960"/>
            <a:chOff x="428760" y="2286000"/>
            <a:chExt cx="3142800" cy="2928960"/>
          </a:xfrm>
        </p:grpSpPr>
        <p:sp>
          <p:nvSpPr>
            <p:cNvPr id="313" name="Text Box 3"/>
            <p:cNvSpPr/>
            <p:nvPr/>
          </p:nvSpPr>
          <p:spPr>
            <a:xfrm>
              <a:off x="428760" y="2286000"/>
              <a:ext cx="3139560" cy="29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2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?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4"/>
            <p:cNvSpPr/>
            <p:nvPr/>
          </p:nvSpPr>
          <p:spPr>
            <a:xfrm>
              <a:off x="880560" y="5095080"/>
              <a:ext cx="67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>
              <a:off x="1549800" y="4340520"/>
              <a:ext cx="67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 flipH="1" flipV="1">
              <a:off x="2210760" y="3539160"/>
              <a:ext cx="5040" cy="80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7"/>
            <p:cNvSpPr/>
            <p:nvPr/>
          </p:nvSpPr>
          <p:spPr>
            <a:xfrm flipH="1" flipV="1">
              <a:off x="2896920" y="2880000"/>
              <a:ext cx="5760" cy="6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>
              <a:off x="2222640" y="3541680"/>
              <a:ext cx="67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2899080" y="2867400"/>
              <a:ext cx="67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 flipH="1" flipV="1">
              <a:off x="1537560" y="4340520"/>
              <a:ext cx="46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16"/>
          <p:cNvSpPr/>
          <p:nvPr/>
        </p:nvSpPr>
        <p:spPr>
          <a:xfrm>
            <a:off x="4429080" y="1928880"/>
            <a:ext cx="435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9"/>
          <p:cNvSpPr/>
          <p:nvPr/>
        </p:nvSpPr>
        <p:spPr>
          <a:xfrm>
            <a:off x="5072040" y="242892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2"/>
          <p:cNvSpPr/>
          <p:nvPr/>
        </p:nvSpPr>
        <p:spPr>
          <a:xfrm>
            <a:off x="3714840" y="2143080"/>
            <a:ext cx="5429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1 ступень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ногое не понял и остались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2 ступень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о время работы много было труд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3 ступень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ногое понял, но был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4 ступень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рудности преодо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4"/>
          <p:cNvSpPr txBox="1"/>
          <p:nvPr/>
        </p:nvSpPr>
        <p:spPr>
          <a:xfrm>
            <a:off x="1428840" y="2214720"/>
            <a:ext cx="61164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Спасибо за работу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325" name="TextBox 16"/>
          <p:cNvSpPr/>
          <p:nvPr/>
        </p:nvSpPr>
        <p:spPr>
          <a:xfrm>
            <a:off x="4429080" y="1928880"/>
            <a:ext cx="435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9"/>
          <p:cNvSpPr/>
          <p:nvPr/>
        </p:nvSpPr>
        <p:spPr>
          <a:xfrm>
            <a:off x="5072040" y="242892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285840" y="214200"/>
            <a:ext cx="8429400" cy="6429600"/>
            <a:chOff x="285840" y="214200"/>
            <a:chExt cx="8429400" cy="6429600"/>
          </a:xfrm>
        </p:grpSpPr>
        <p:sp>
          <p:nvSpPr>
            <p:cNvPr id="47" name="AutoShape 3"/>
            <p:cNvSpPr/>
            <p:nvPr/>
          </p:nvSpPr>
          <p:spPr>
            <a:xfrm>
              <a:off x="7275960" y="2204280"/>
              <a:ext cx="1439280" cy="918360"/>
            </a:xfrm>
            <a:prstGeom prst="hexagon">
              <a:avLst>
                <a:gd name="adj" fmla="val 39181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3780720" y="5878440"/>
              <a:ext cx="1644480" cy="76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3780720" y="214200"/>
              <a:ext cx="1644480" cy="968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696600" y="5419080"/>
              <a:ext cx="1850400" cy="7160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7"/>
            <p:cNvSpPr/>
            <p:nvPr/>
          </p:nvSpPr>
          <p:spPr>
            <a:xfrm flipV="1">
              <a:off x="6453360" y="825120"/>
              <a:ext cx="1826280" cy="7167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7481520" y="3735000"/>
              <a:ext cx="1233360" cy="92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070400" y="5266080"/>
              <a:ext cx="909000" cy="12423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85840" y="2204280"/>
              <a:ext cx="1475280" cy="708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3369600" y="1477800"/>
              <a:ext cx="246708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2"/>
            <p:cNvSpPr/>
            <p:nvPr/>
          </p:nvSpPr>
          <p:spPr>
            <a:xfrm>
              <a:off x="491400" y="3735000"/>
              <a:ext cx="1233360" cy="91836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3"/>
            <p:cNvSpPr/>
            <p:nvPr/>
          </p:nvSpPr>
          <p:spPr>
            <a:xfrm>
              <a:off x="902520" y="979560"/>
              <a:ext cx="2055960" cy="765360"/>
            </a:xfrm>
            <a:prstGeom prst="parallelogram">
              <a:avLst>
                <a:gd name="adj" fmla="val 67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1571760" y="357120"/>
            <a:ext cx="5832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Преобразования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75680" y="1484280"/>
            <a:ext cx="88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еобразование одной фигуры в другую, при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охраняется расстояние между точками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ви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179280" y="4508640"/>
            <a:ext cx="2519640" cy="208728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 rot="20530800">
            <a:off x="6732720" y="4941720"/>
            <a:ext cx="2232000" cy="17272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179280" y="4508640"/>
            <a:ext cx="2519640" cy="208728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 rot="20530800">
            <a:off x="6732720" y="4941720"/>
            <a:ext cx="2232000" cy="17272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school_p"/>
          <p:cNvPicPr/>
          <p:nvPr/>
        </p:nvPicPr>
        <p:blipFill>
          <a:blip r:embed="rId1"/>
          <a:stretch/>
        </p:blipFill>
        <p:spPr>
          <a:xfrm>
            <a:off x="179280" y="189000"/>
            <a:ext cx="117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2 0.04719 L 0.33472 -0.30928 E">
                                      <p:cBhvr>
                                        <p:cTn id="6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13347 L -0.00399 -0.37775 E">
                                      <p:cBhvr>
                                        <p:cTn id="7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1"/>
          <p:cNvSpPr/>
          <p:nvPr/>
        </p:nvSpPr>
        <p:spPr>
          <a:xfrm>
            <a:off x="1547640" y="1916280"/>
            <a:ext cx="432000" cy="2879640"/>
          </a:xfrm>
          <a:prstGeom prst="downArrow">
            <a:avLst>
              <a:gd name="adj1" fmla="val 49676"/>
              <a:gd name="adj2" fmla="val 11905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588000" y="1916280"/>
            <a:ext cx="432000" cy="2879640"/>
          </a:xfrm>
          <a:prstGeom prst="downArrow">
            <a:avLst>
              <a:gd name="adj1" fmla="val 49676"/>
              <a:gd name="adj2" fmla="val 11905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900000" y="0"/>
            <a:ext cx="6840720" cy="2151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1547640" y="54936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Движение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324000" y="2708280"/>
            <a:ext cx="3671640" cy="1359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68360" y="4581360"/>
            <a:ext cx="3403440" cy="136872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во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5076720" y="2708280"/>
            <a:ext cx="3456000" cy="13683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севая 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5076720" y="4581360"/>
            <a:ext cx="3527640" cy="1440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аралл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5292720" y="1916280"/>
            <a:ext cx="431640" cy="976320"/>
          </a:xfrm>
          <a:prstGeom prst="downArrow">
            <a:avLst>
              <a:gd name="adj1" fmla="val 50000"/>
              <a:gd name="adj2" fmla="val 467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3276720" y="1916280"/>
            <a:ext cx="431640" cy="976320"/>
          </a:xfrm>
          <a:prstGeom prst="downArrow">
            <a:avLst>
              <a:gd name="adj1" fmla="val 50000"/>
              <a:gd name="adj2" fmla="val 467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school_p"/>
          <p:cNvPicPr/>
          <p:nvPr/>
        </p:nvPicPr>
        <p:blipFill>
          <a:blip r:embed="rId7"/>
          <a:stretch/>
        </p:blipFill>
        <p:spPr>
          <a:xfrm>
            <a:off x="7885080" y="26028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Рисунок3"/>
          <p:cNvPicPr/>
          <p:nvPr/>
        </p:nvPicPr>
        <p:blipFill>
          <a:blip r:embed="rId8"/>
          <a:stretch/>
        </p:blipFill>
        <p:spPr>
          <a:xfrm rot="607800">
            <a:off x="3492360" y="5950080"/>
            <a:ext cx="2005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7451640"/>
        </p:xfrm>
        <a:graphic>
          <a:graphicData uri="http://schemas.openxmlformats.org/drawingml/2006/table">
            <a:tbl>
              <a:tblPr/>
              <a:tblGrid>
                <a:gridCol w="928800"/>
                <a:gridCol w="5000400"/>
                <a:gridCol w="3214800"/>
              </a:tblGrid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ы: кубик, воздушный шарик, лист бумаги, нитки (на каждую парту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тметьте на одной из сторон кубика две точки. Измерьте расстояние между этими точками линейкой или ниткой. Измерьте длину ребра куб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ередвиньте кубик на другое место на парте. Измерьте расстояние между отмеченными точками. Измерьте длину ребра куб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делайте выво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любом передвижении кубика на парте его размеры ____________________________, длина ____________ остается ________________, форма ______________. Расстояние между отмеченными точками также ________________________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000080"/>
                <a:gridCol w="4357800"/>
                <a:gridCol w="37861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ьте на воздушном шарике две точки, измерьте расстояние между ни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Надуйте шари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ратите внимание на новую форму шар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С помощью нитки измерьте расстояние между точками на надутом шари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делайте выво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надувании шарика _____________________его форма и размеры. Расстояние между отмеченными точками также ____________________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28800"/>
                <a:gridCol w="4643280"/>
                <a:gridCol w="357192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озьмите лист бумаги, отметьте на нём две точки и измерьте расстояние между ни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ередвиньте лист по парте на какое-то расстояние. Измерьте расстояние между точк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комкайте лист так, чтобы отмеченные точки были видны. Измерьте расстояние между отмеченными точками с помощью ни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Сделайте выво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лист передвигаем, его форма ______________, расстояние между отмеченными точками остается ___________________. Если лист смяли, то __________________ и его форма и расстояние между отмеченными точк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0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"/>
          <p:cNvGrpSpPr/>
          <p:nvPr/>
        </p:nvGrpSpPr>
        <p:grpSpPr>
          <a:xfrm>
            <a:off x="214200" y="700200"/>
            <a:ext cx="8715240" cy="5871600"/>
            <a:chOff x="214200" y="700200"/>
            <a:chExt cx="8715240" cy="5871600"/>
          </a:xfrm>
        </p:grpSpPr>
        <p:sp>
          <p:nvSpPr>
            <p:cNvPr id="82" name="Rectangle 29"/>
            <p:cNvSpPr/>
            <p:nvPr/>
          </p:nvSpPr>
          <p:spPr>
            <a:xfrm>
              <a:off x="214200" y="3777120"/>
              <a:ext cx="4124880" cy="279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8"/>
            <p:cNvSpPr/>
            <p:nvPr/>
          </p:nvSpPr>
          <p:spPr>
            <a:xfrm>
              <a:off x="2107080" y="3777120"/>
              <a:ext cx="1524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оворо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21"/>
            <p:cNvGrpSpPr/>
            <p:nvPr/>
          </p:nvGrpSpPr>
          <p:grpSpPr>
            <a:xfrm>
              <a:off x="214200" y="719640"/>
              <a:ext cx="4124880" cy="2791080"/>
              <a:chOff x="214200" y="719640"/>
              <a:chExt cx="4124880" cy="2791080"/>
            </a:xfrm>
          </p:grpSpPr>
          <p:sp>
            <p:nvSpPr>
              <p:cNvPr id="85" name="Rectangle 27"/>
              <p:cNvSpPr/>
              <p:nvPr/>
            </p:nvSpPr>
            <p:spPr>
              <a:xfrm>
                <a:off x="214200" y="719640"/>
                <a:ext cx="4124880" cy="2791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26"/>
              <p:cNvSpPr/>
              <p:nvPr/>
            </p:nvSpPr>
            <p:spPr>
              <a:xfrm>
                <a:off x="1648440" y="719640"/>
                <a:ext cx="1793880" cy="5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Перенос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Picture 25" descr="матрешка"/>
              <p:cNvPicPr/>
              <p:nvPr/>
            </p:nvPicPr>
            <p:blipFill>
              <a:blip r:embed="rId1"/>
              <a:stretch/>
            </p:blipFill>
            <p:spPr>
              <a:xfrm>
                <a:off x="352080" y="1008000"/>
                <a:ext cx="817560" cy="174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Picture 24" descr="матрешка"/>
              <p:cNvPicPr/>
              <p:nvPr/>
            </p:nvPicPr>
            <p:blipFill>
              <a:blip r:embed="rId2"/>
              <a:stretch/>
            </p:blipFill>
            <p:spPr>
              <a:xfrm>
                <a:off x="2887560" y="1570680"/>
                <a:ext cx="81756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Line 23"/>
              <p:cNvSpPr/>
              <p:nvPr/>
            </p:nvSpPr>
            <p:spPr>
              <a:xfrm>
                <a:off x="605520" y="2696400"/>
                <a:ext cx="2535120" cy="56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2"/>
              <p:cNvSpPr/>
              <p:nvPr/>
            </p:nvSpPr>
            <p:spPr>
              <a:xfrm>
                <a:off x="797760" y="1038960"/>
                <a:ext cx="2535120" cy="56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20"/>
            <p:cNvSpPr/>
            <p:nvPr/>
          </p:nvSpPr>
          <p:spPr>
            <a:xfrm>
              <a:off x="4633200" y="719640"/>
              <a:ext cx="4124880" cy="279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9"/>
            <p:cNvSpPr/>
            <p:nvPr/>
          </p:nvSpPr>
          <p:spPr>
            <a:xfrm>
              <a:off x="5529600" y="700200"/>
              <a:ext cx="28202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севая симметр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8"/>
            <p:cNvSpPr/>
            <p:nvPr/>
          </p:nvSpPr>
          <p:spPr>
            <a:xfrm>
              <a:off x="6605640" y="1091520"/>
              <a:ext cx="0" cy="22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5709600" y="2952000"/>
              <a:ext cx="1792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6" descr="матрешка"/>
            <p:cNvPicPr/>
            <p:nvPr/>
          </p:nvPicPr>
          <p:blipFill>
            <a:blip r:embed="rId3"/>
            <a:stretch/>
          </p:blipFill>
          <p:spPr>
            <a:xfrm>
              <a:off x="4936320" y="1322280"/>
              <a:ext cx="816840" cy="17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5" descr="матрешка"/>
            <p:cNvPicPr/>
            <p:nvPr/>
          </p:nvPicPr>
          <p:blipFill>
            <a:blip r:embed="rId4"/>
            <a:stretch/>
          </p:blipFill>
          <p:spPr>
            <a:xfrm flipH="1">
              <a:off x="7452000" y="1369440"/>
              <a:ext cx="816840" cy="174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Group 8"/>
            <p:cNvGrpSpPr/>
            <p:nvPr/>
          </p:nvGrpSpPr>
          <p:grpSpPr>
            <a:xfrm>
              <a:off x="1143720" y="3888000"/>
              <a:ext cx="2480760" cy="2576880"/>
              <a:chOff x="1143720" y="3888000"/>
              <a:chExt cx="2480760" cy="2576880"/>
            </a:xfrm>
          </p:grpSpPr>
          <p:pic>
            <p:nvPicPr>
              <p:cNvPr id="98" name="Picture 14" descr="матрешка"/>
              <p:cNvPicPr/>
              <p:nvPr/>
            </p:nvPicPr>
            <p:blipFill>
              <a:blip r:embed="rId5"/>
              <a:stretch/>
            </p:blipFill>
            <p:spPr>
              <a:xfrm>
                <a:off x="1143720" y="3888000"/>
                <a:ext cx="817560" cy="174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3" descr="матрешка"/>
              <p:cNvPicPr/>
              <p:nvPr/>
            </p:nvPicPr>
            <p:blipFill>
              <a:blip r:embed="rId6"/>
              <a:stretch/>
            </p:blipFill>
            <p:spPr>
              <a:xfrm rot="2885400">
                <a:off x="2280240" y="4635000"/>
                <a:ext cx="907920" cy="157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Group 9"/>
              <p:cNvGrpSpPr/>
              <p:nvPr/>
            </p:nvGrpSpPr>
            <p:grpSpPr>
              <a:xfrm>
                <a:off x="1539720" y="5612400"/>
                <a:ext cx="647640" cy="852480"/>
                <a:chOff x="1539720" y="5612400"/>
                <a:chExt cx="647640" cy="852480"/>
              </a:xfrm>
            </p:grpSpPr>
            <p:sp>
              <p:nvSpPr>
                <p:cNvPr id="101" name="Line 12"/>
                <p:cNvSpPr/>
                <p:nvPr/>
              </p:nvSpPr>
              <p:spPr>
                <a:xfrm flipH="1">
                  <a:off x="1539720" y="5612400"/>
                  <a:ext cx="36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1"/>
                <p:cNvSpPr/>
                <p:nvPr/>
              </p:nvSpPr>
              <p:spPr>
                <a:xfrm flipH="1">
                  <a:off x="1553760" y="6000120"/>
                  <a:ext cx="633600" cy="43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0"/>
                <p:cNvSpPr/>
                <p:nvPr/>
              </p:nvSpPr>
              <p:spPr>
                <a:xfrm>
                  <a:off x="1545120" y="5860800"/>
                  <a:ext cx="441360" cy="267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Line 7"/>
            <p:cNvSpPr/>
            <p:nvPr/>
          </p:nvSpPr>
          <p:spPr>
            <a:xfrm flipV="1">
              <a:off x="5440320" y="4915800"/>
              <a:ext cx="2328120" cy="49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633200" y="3780720"/>
              <a:ext cx="4124880" cy="279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5380200" y="3780720"/>
              <a:ext cx="35492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Центральная симметр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4"/>
            <p:cNvSpPr/>
            <p:nvPr/>
          </p:nvSpPr>
          <p:spPr>
            <a:xfrm>
              <a:off x="6595560" y="5138640"/>
              <a:ext cx="46800" cy="4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3" descr="матрешка"/>
            <p:cNvPicPr/>
            <p:nvPr/>
          </p:nvPicPr>
          <p:blipFill>
            <a:blip r:embed="rId7"/>
            <a:stretch/>
          </p:blipFill>
          <p:spPr>
            <a:xfrm rot="21301200">
              <a:off x="4637520" y="3835800"/>
              <a:ext cx="817200" cy="17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" descr="матрешка"/>
            <p:cNvPicPr/>
            <p:nvPr/>
          </p:nvPicPr>
          <p:blipFill>
            <a:blip r:embed="rId8"/>
            <a:stretch/>
          </p:blipFill>
          <p:spPr>
            <a:xfrm rot="10501200">
              <a:off x="7713720" y="4771440"/>
              <a:ext cx="817200" cy="174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Rectangle 35"/>
          <p:cNvSpPr/>
          <p:nvPr/>
        </p:nvSpPr>
        <p:spPr>
          <a:xfrm>
            <a:off x="3020040" y="75600"/>
            <a:ext cx="3103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Упражнение 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 Матрёшки (примеры движений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755640" y="18900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Параллельный перенос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571680" y="2071800"/>
            <a:ext cx="2428560" cy="1571400"/>
            <a:chOff x="571680" y="2071800"/>
            <a:chExt cx="2428560" cy="1571400"/>
          </a:xfrm>
        </p:grpSpPr>
        <p:grpSp>
          <p:nvGrpSpPr>
            <p:cNvPr id="113" name="Group 28"/>
            <p:cNvGrpSpPr/>
            <p:nvPr/>
          </p:nvGrpSpPr>
          <p:grpSpPr>
            <a:xfrm>
              <a:off x="571680" y="2203200"/>
              <a:ext cx="2428560" cy="1305360"/>
              <a:chOff x="571680" y="2203200"/>
              <a:chExt cx="2428560" cy="1305360"/>
            </a:xfrm>
          </p:grpSpPr>
          <p:grpSp>
            <p:nvGrpSpPr>
              <p:cNvPr id="114" name="Group 29"/>
              <p:cNvGrpSpPr/>
              <p:nvPr/>
            </p:nvGrpSpPr>
            <p:grpSpPr>
              <a:xfrm>
                <a:off x="571680" y="2203200"/>
                <a:ext cx="2428560" cy="1305360"/>
                <a:chOff x="571680" y="2203200"/>
                <a:chExt cx="2428560" cy="1305360"/>
              </a:xfrm>
            </p:grpSpPr>
            <p:pic>
              <p:nvPicPr>
                <p:cNvPr id="115" name="Picture 30" descr="клетка"/>
                <p:cNvPicPr/>
                <p:nvPr/>
              </p:nvPicPr>
              <p:blipFill>
                <a:blip r:embed="rId1">
                  <a:lum contrast="24000"/>
                </a:blip>
                <a:srcRect l="22844" t="6047" r="23026" b="52156"/>
                <a:stretch/>
              </p:blipFill>
              <p:spPr>
                <a:xfrm>
                  <a:off x="571680" y="2203200"/>
                  <a:ext cx="2428560" cy="130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Freeform 31"/>
                <p:cNvSpPr/>
                <p:nvPr/>
              </p:nvSpPr>
              <p:spPr>
                <a:xfrm>
                  <a:off x="733320" y="2430360"/>
                  <a:ext cx="1207800" cy="837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Oval 32"/>
              <p:cNvSpPr/>
              <p:nvPr/>
            </p:nvSpPr>
            <p:spPr>
              <a:xfrm>
                <a:off x="725760" y="2406240"/>
                <a:ext cx="4032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33"/>
              <p:cNvSpPr/>
              <p:nvPr/>
            </p:nvSpPr>
            <p:spPr>
              <a:xfrm>
                <a:off x="1918800" y="3242880"/>
                <a:ext cx="4032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34"/>
            <p:cNvSpPr/>
            <p:nvPr/>
          </p:nvSpPr>
          <p:spPr>
            <a:xfrm>
              <a:off x="705600" y="2071800"/>
              <a:ext cx="397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5"/>
            <p:cNvSpPr/>
            <p:nvPr/>
          </p:nvSpPr>
          <p:spPr>
            <a:xfrm>
              <a:off x="1620360" y="3187080"/>
              <a:ext cx="397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4786200" y="1928880"/>
            <a:ext cx="2500560" cy="1643040"/>
            <a:chOff x="4786200" y="1928880"/>
            <a:chExt cx="2500560" cy="1643040"/>
          </a:xfrm>
        </p:grpSpPr>
        <p:grpSp>
          <p:nvGrpSpPr>
            <p:cNvPr id="122" name="Group 37"/>
            <p:cNvGrpSpPr/>
            <p:nvPr/>
          </p:nvGrpSpPr>
          <p:grpSpPr>
            <a:xfrm>
              <a:off x="4786200" y="2075400"/>
              <a:ext cx="2500560" cy="1373400"/>
              <a:chOff x="4786200" y="2075400"/>
              <a:chExt cx="2500560" cy="1373400"/>
            </a:xfrm>
          </p:grpSpPr>
          <p:grpSp>
            <p:nvGrpSpPr>
              <p:cNvPr id="123" name="Group 38"/>
              <p:cNvGrpSpPr/>
              <p:nvPr/>
            </p:nvGrpSpPr>
            <p:grpSpPr>
              <a:xfrm>
                <a:off x="4786200" y="2075400"/>
                <a:ext cx="2500560" cy="1373400"/>
                <a:chOff x="4786200" y="2075400"/>
                <a:chExt cx="2500560" cy="1373400"/>
              </a:xfrm>
            </p:grpSpPr>
            <p:pic>
              <p:nvPicPr>
                <p:cNvPr id="124" name="Picture 39" descr="клетка"/>
                <p:cNvPicPr/>
                <p:nvPr/>
              </p:nvPicPr>
              <p:blipFill>
                <a:blip r:embed="rId2">
                  <a:lum contrast="24000"/>
                </a:blip>
                <a:srcRect l="22844" t="6047" r="23026" b="52156"/>
                <a:stretch/>
              </p:blipFill>
              <p:spPr>
                <a:xfrm>
                  <a:off x="4786200" y="2075400"/>
                  <a:ext cx="2500560" cy="13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Freeform 40"/>
                <p:cNvSpPr/>
                <p:nvPr/>
              </p:nvSpPr>
              <p:spPr>
                <a:xfrm>
                  <a:off x="4952520" y="2314080"/>
                  <a:ext cx="1243800" cy="880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Oval 41"/>
              <p:cNvSpPr/>
              <p:nvPr/>
            </p:nvSpPr>
            <p:spPr>
              <a:xfrm>
                <a:off x="4944600" y="2288880"/>
                <a:ext cx="41400" cy="59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42"/>
              <p:cNvSpPr/>
              <p:nvPr/>
            </p:nvSpPr>
            <p:spPr>
              <a:xfrm>
                <a:off x="6173280" y="3169080"/>
                <a:ext cx="41400" cy="59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5871240" y="2310120"/>
                <a:ext cx="1243800" cy="8809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44"/>
              <p:cNvSpPr/>
              <p:nvPr/>
            </p:nvSpPr>
            <p:spPr>
              <a:xfrm>
                <a:off x="5850000" y="2280600"/>
                <a:ext cx="41400" cy="59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45"/>
              <p:cNvSpPr/>
              <p:nvPr/>
            </p:nvSpPr>
            <p:spPr>
              <a:xfrm>
                <a:off x="7098840" y="3160800"/>
                <a:ext cx="41400" cy="59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46"/>
              <p:cNvSpPr/>
              <p:nvPr/>
            </p:nvSpPr>
            <p:spPr>
              <a:xfrm flipV="1">
                <a:off x="4970160" y="2309760"/>
                <a:ext cx="900720" cy="2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47"/>
              <p:cNvSpPr/>
              <p:nvPr/>
            </p:nvSpPr>
            <p:spPr>
              <a:xfrm>
                <a:off x="6239520" y="3189960"/>
                <a:ext cx="90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48"/>
            <p:cNvSpPr/>
            <p:nvPr/>
          </p:nvSpPr>
          <p:spPr>
            <a:xfrm>
              <a:off x="4888440" y="1928880"/>
              <a:ext cx="40932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9"/>
            <p:cNvSpPr/>
            <p:nvPr/>
          </p:nvSpPr>
          <p:spPr>
            <a:xfrm>
              <a:off x="5789160" y="3043800"/>
              <a:ext cx="40932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Рисунок 49" descr="7"/>
          <p:cNvPicPr/>
          <p:nvPr/>
        </p:nvPicPr>
        <p:blipFill>
          <a:blip r:embed="rId3"/>
          <a:stretch/>
        </p:blipFill>
        <p:spPr>
          <a:xfrm>
            <a:off x="714240" y="4714920"/>
            <a:ext cx="105912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0" descr="8"/>
          <p:cNvPicPr/>
          <p:nvPr/>
        </p:nvPicPr>
        <p:blipFill>
          <a:blip r:embed="rId4"/>
          <a:stretch/>
        </p:blipFill>
        <p:spPr>
          <a:xfrm>
            <a:off x="3000240" y="4643280"/>
            <a:ext cx="3857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4:22Z</dcterms:created>
  <dc:creator>User</dc:creator>
  <dc:description/>
  <dc:language>en-US</dc:language>
  <cp:lastModifiedBy>Electronica</cp:lastModifiedBy>
  <dcterms:modified xsi:type="dcterms:W3CDTF">2017-04-19T15:29:19Z</dcterms:modified>
  <cp:revision>48</cp:revision>
  <dc:subject/>
  <dc:title>Слайд 1</dc:title>
</cp:coreProperties>
</file>